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80C4-8B26-4F24-9D1D-D20675C9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08AC6-2917-4353-9856-7C06B3B5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6F47-FE0E-4D57-B74C-41D2EA63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437F0-D4F1-4701-9563-BE1AD482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04D-B27A-41C0-8CDA-2D7428E9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107E-7BA4-4A3C-825F-CCC6DF6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4F17-2338-48C5-90CD-D937FFF5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DF9C-9920-42E5-BC17-09D87059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3376-F4A5-4A27-A38A-753A3C2F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19C-0243-4D5E-8DC1-34B26D3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577-F8AC-4825-8FEF-BBFC26C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9B60-6C62-4560-8E84-4DB13AE0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2E64-9307-4408-899E-7C1EA3DF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792-46E4-4768-BAA2-368E3223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73F2-E368-4168-AD36-64AA0AB0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F4BA-2ADB-4ACB-AF73-F459E408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6640-6E75-475A-A23A-9D121733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B4E7-BCA6-4E4F-9819-CEA473B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D590-FDE0-41E9-ADF1-0D7A691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C2E6-9160-43A3-81A9-544CEEA4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2073-2640-4624-B4D1-CE55C0CC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02DE-7213-470E-9EBC-D58733D9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9C12-1F64-4859-AD70-445670A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BBEF-9D66-42EA-BAAC-ABCF405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7F8B-F0B6-496B-AB69-954C65C71D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C3BD-76F6-414D-9A10-BBA1227F76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oastmaters.org/pdfs/top10.pdf" TargetMode="External"/><Relationship Id="rId2" Type="http://schemas.openxmlformats.org/officeDocument/2006/relationships/hyperlink" Target="http://www.microsoft.com/en-us/FX011887231033.aspx" TargetMode="External"/><Relationship Id="rId3" Type="http://schemas.openxmlformats.org/officeDocument/2006/relationships/hyperlink" Target="http://www.microsoft.com/en-us/FX011887151033.aspx" TargetMode="External"/><Relationship Id="rId4" Type="http://schemas.openxmlformats.org/officeDocument/2006/relationships/hyperlink" Target="http://www.americanheart.org/presenter.jhtml?identifier=3029015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How to Create and Deliver an Effective PowerPoint Presentation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689440" cy="356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Ski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Maintain eye contact with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your voice effective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jec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ak clear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ak with ex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hearse in adv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rove 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distracting mannerisms and verbal fill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 Things To Walk Away With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owerPoint should work with your message, not against 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Keep it simple; less is often more in graphics, design and wor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ere is no substitute for strong presentation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ks Consul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0 Tips for Successful Public Speaking”. Toastmasters International. 24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toastmaters.org/pdfs/top10.pd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kinson, Cliff. “Work confidently with your presentation slides”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crosoft. 20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microsoft.com/en-us/FX011887231033.asp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rardo, Linda. “Effective Seminar Presentations”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irardo, Linda et al. “The Medium Is Not Always the Message”. York Catholic District School Board, 200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kinson, Cliff. “3 rules for a great presentation”. Microsoft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0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microsoft.com/en-us/FX011887151033.aspx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meathers, H. “How To Create a Multi Media Presentation”. 2005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ips for PowerPoint Presentations”. American Heart Association. 20 May 2006.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www.americanheart.org/presenter.jhtml?identifier=30290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owerPoint doesn’t kill presentations, people kill presentations.”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~Andrew Wahl, Canadian Busines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 Most Common Mistake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phics and special effects overshadow the cont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 much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er reads from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phics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04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raphics can support your message 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racting audience inter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rifying id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phasizing key poi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raphics should support― not overwhelm― your mes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clutter slides with pi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video clips short and to the poi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ize special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phics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Simplify graphs, charts and diagra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bar graphs and pie charts not t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lace labels outside pie cha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y scales on the X- and Y-ax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39272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Keep design consistent and visually appea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 slide templ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backg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colours sparingly (2-3 max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consistent from slide to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not use red in any font or backgr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ontrast background and lettering for read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raduated or textured backgrounds add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ding: Keep It Si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Abbreviate your mes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bullet points not sen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apitalize the first word only in bullet p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CAPS INDICATES YOU ARE SHOU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no more than 2 different fo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se large, easy to read font (24 pts. for main tex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llow the 7 X 7 r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over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Ski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Know your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now more about your material than you include in the 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on’t read from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bullet points as c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 the audience not the scre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a conversation with the aud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2920" y="155736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esentation Ski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Involve the audi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an attention grabber in the ope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k a ques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rvey the audi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lude personal sto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8:05:10Z</dcterms:created>
  <dc:creator>FL</dc:creator>
  <dc:description/>
  <dc:language>en-US</dc:language>
  <cp:lastModifiedBy>035169</cp:lastModifiedBy>
  <dcterms:modified xsi:type="dcterms:W3CDTF">2007-10-22T17:14:42Z</dcterms:modified>
  <cp:revision>13</cp:revision>
  <dc:subject/>
  <dc:title>  “PowerPoint doesn’t kill presentations, people kill presentations.”   ~Andrew Wahl, Canadian Business</dc:title>
</cp:coreProperties>
</file>